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608-B783-47C1-8D94-7225B330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DF9-85E8-4000-8B85-62FFF946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CF79-ECBF-4E10-89D0-DC6BEE9C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F73C-DBB5-4BC3-8DCD-57FA15C0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1197-6A0B-4971-B3AE-34758A05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188-8968-4C08-9D88-401125C3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7FD-2509-4A82-9173-E5A1F816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ADEA-A784-44EC-A773-FFF2F77E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BAD8-580B-41CB-B6A4-354C3B5D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471-7CE0-42B3-82BD-F5F96871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EC9-5F21-4BE8-B4BF-9CAC6A4A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85BA-096A-4375-9799-B7AE7313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1FB2-6A80-4EF7-9647-C0D482C71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217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НАЛИЗА ИНДИВИДУАЛНОГ ДНЕВНОГ ОБРОКА</a:t>
            </a:r>
            <a:br>
              <a:rPr sz="4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ПРАКТИЧНИ РАД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E:\Nena\Doktorske\MFgrb.gif"/>
          <p:cNvPicPr/>
          <p:nvPr/>
        </p:nvPicPr>
        <p:blipFill>
          <a:blip r:embed="rId1"/>
          <a:stretch/>
        </p:blipFill>
        <p:spPr>
          <a:xfrm>
            <a:off x="8088480" y="0"/>
            <a:ext cx="1055520" cy="15238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152280" y="152280"/>
            <a:ext cx="548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Факултет 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едицински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наук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у Крагујевц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Основне струковне студиј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ДИЈЕТЕ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651640" y="57340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АТЕДРА 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ФИЗИОЛОГИЈУ И ДИЈЕТЕТИК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2514600" y="3886200"/>
            <a:ext cx="3733920" cy="2813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0T09:24:38Z</dcterms:created>
  <dc:creator>XP</dc:creator>
  <dc:description/>
  <dc:language>en-US</dc:language>
  <cp:lastModifiedBy>XP</cp:lastModifiedBy>
  <dcterms:modified xsi:type="dcterms:W3CDTF">2014-02-07T09:08:47Z</dcterms:modified>
  <cp:revision>5</cp:revision>
  <dc:subject/>
  <dc:title>ИНДИВИДУАЛНО ОДРЕЂИВАЊЕ ДНЕВНИХ ЕНЕРГЕТСКИХ ПОТРЕБА -ПРАКТИЧНИ РАД-</dc:title>
</cp:coreProperties>
</file>